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ABA8-25B0-4FB2-A530-15449087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710-1724-45B8-BC89-B9D8568A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309-5E97-461D-B675-CD3D23B1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B125-6916-43E5-A3B7-4190D157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8BC-AC07-41F9-89D1-BAFAF5D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6D2-33F4-4397-835A-7C813CF9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583-3F12-4B99-82FB-BE1FDD5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1E6-3D6C-4EC4-BF56-826247D8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914-FCDA-444B-B285-AECFC775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74F5-1007-4E01-869A-9A8EFE3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0CA-F62A-477E-9765-DDCAC13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D5C-0647-4959-8348-1BFC364C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F5D7D-D4EE-4464-92A5-672BA326B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MATHEMATIC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1981080"/>
            <a:ext cx="8777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5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ASIC MATHEMATICAL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5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48120" y="304812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1000"/>
                  </a:srgbClr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P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1000"/>
                </a:srgbClr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596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n this unit, the learners should be able to use correct and appropriate mathematic operation: addition, subtraction, division and multiplication. By this Mathematical Operation, they do not only use this operation merely on math, but they should be able to connect these operations in their everyday liv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8120" y="361800"/>
            <a:ext cx="533376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it Summary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2895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67080" y="380880"/>
            <a:ext cx="26672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FQ'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8600" y="1981080"/>
            <a:ext cx="8915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different mathematical operation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Unit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will you apply the mathematical operations in your daily li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Content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do the four operations related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 anoth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2514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his project will help my students develop 21</a:t>
            </a:r>
            <a:r>
              <a:rPr b="1" lang="en-US" sz="3200" spc="-1" strike="noStrike" baseline="30000">
                <a:solidFill>
                  <a:srgbClr val="000099"/>
                </a:solidFill>
                <a:latin typeface="Comic Sans MS"/>
              </a:rPr>
              <a:t>st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century skill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ical Thinking and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 and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itiative and Self-Dir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ic Lif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304920"/>
            <a:ext cx="4952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Basic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thematical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per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8288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I can use the information from these assessm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cus on the basic mathematical operation that the student will disc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activities in which they will answer their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Students can use the information from these assessm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pply all mathemat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 to their daily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152280"/>
            <a:ext cx="48765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auging Student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eeds Assessment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496200" y="5486400"/>
            <a:ext cx="2647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18748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quire skills in performing basic operations in mat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nk the mathematical operations in their dail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ue the importance of these mathematical operations in line with their daily lives, and be able to enhance their criti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ing  and problem solving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62520" y="228600"/>
            <a:ext cx="44956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Our Goals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r This Course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496200" y="5334120"/>
            <a:ext cx="2647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52280" y="202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Need ways to help students understand the Basic Mathematical Operations that are relevant in their liv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Need help assessing students’ higher-order thin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505320" y="304920"/>
            <a:ext cx="41907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quests fo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edback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496200" y="5334120"/>
            <a:ext cx="26478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31:26Z</dcterms:created>
  <dc:creator>nave1386</dc:creator>
  <dc:description/>
  <dc:language>en-US</dc:language>
  <cp:lastModifiedBy>nave1386</cp:lastModifiedBy>
  <dcterms:modified xsi:type="dcterms:W3CDTF">2010-08-31T20:09:40Z</dcterms:modified>
  <cp:revision>3</cp:revision>
  <dc:subject/>
  <dc:title>BASIC MATHEMATIC OPERATIONS</dc:title>
</cp:coreProperties>
</file>